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6.gif" ContentType="image/gif"/>
  <Override PartName="/ppt/media/image9.wmf" ContentType="image/x-wmf"/>
  <Override PartName="/ppt/media/image11.gif" ContentType="image/gi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999F-C7F6-4194-9522-161239BC5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6C11-C414-4920-865A-45EF91A8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4793-B97B-4990-8A65-0D83D4AC6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7B1C-CFD5-40FF-ADD5-9E436543D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CCB2-CEDD-468B-B121-392899143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FD89-342A-4660-90F4-3101A6A8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F49F-D202-4159-88AF-A8A6251A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B84D-F40A-48CF-AD93-07E6410A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B29C-B77E-45D2-B4DC-1BE93D4E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E600-F0E9-4385-8B9B-8AC54328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9ED79-9E8E-4B64-8ED1-8B54F0C2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9D30-E860-4808-8C89-3E23EC90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075A-0C12-4F0D-917B-E99C7552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479A-CF69-4301-8F29-B229A1D5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9808-6B7A-4E54-A3BC-3804F2C5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AC2A-B644-4131-8323-8E34FF04C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00E0-AEE4-4785-A572-01B5A5E33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3FC6-C222-41F4-B306-A4720548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BEA8-766E-47DC-A2D6-E9DF73CB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4B19-2A39-498C-BA19-EA31E4DA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278E-38B5-46B4-8C1B-97A23B9D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A540-641E-4198-8BF9-0A714306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DFA7-B35C-4651-92BE-C52A1035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A985-C01E-4B79-B900-B7DC4C7F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43F2-2D3C-4200-8C09-8F98FB77BE6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F0B8-B83C-44F6-BE93-29C47B54BAA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Моделирова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4500720" y="5643720"/>
            <a:ext cx="414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Доржиева Г.Ю., учитель информати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ОУ «Барагханская СОШ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Что вы понимаете под словом «МОДЕЛЬ»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AG00004_"/>
          <p:cNvPicPr/>
          <p:nvPr/>
        </p:nvPicPr>
        <p:blipFill>
          <a:blip r:embed="rId1"/>
          <a:stretch/>
        </p:blipFill>
        <p:spPr>
          <a:xfrm>
            <a:off x="4932360" y="2565360"/>
            <a:ext cx="2376360" cy="2292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AG00052_"/>
          <p:cNvPicPr/>
          <p:nvPr/>
        </p:nvPicPr>
        <p:blipFill>
          <a:blip r:embed="rId2"/>
          <a:stretch/>
        </p:blipFill>
        <p:spPr>
          <a:xfrm>
            <a:off x="1187280" y="2565360"/>
            <a:ext cx="2880000" cy="1800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J0172067"/>
          <p:cNvPicPr/>
          <p:nvPr/>
        </p:nvPicPr>
        <p:blipFill>
          <a:blip r:embed="rId3"/>
          <a:stretch/>
        </p:blipFill>
        <p:spPr>
          <a:xfrm>
            <a:off x="755640" y="4581360"/>
            <a:ext cx="489744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и уро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Узнать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пределение понятия «модель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ие бывают моде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такое моделирова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такое цель, объект моделиров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Научитьс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различать модел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упрощенное подобие реального объект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дель отражает лишь некоторые свойства объекта, существенные для достижения цели моделиров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4" descr="BL00122_"/>
          <p:cNvPicPr/>
          <p:nvPr/>
        </p:nvPicPr>
        <p:blipFill>
          <a:blip r:embed="rId1"/>
          <a:stretch/>
        </p:blipFill>
        <p:spPr>
          <a:xfrm>
            <a:off x="5651640" y="4292640"/>
            <a:ext cx="2563560" cy="2236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j0335112"/>
          <p:cNvPicPr/>
          <p:nvPr/>
        </p:nvPicPr>
        <p:blipFill>
          <a:blip r:embed="rId2"/>
          <a:stretch/>
        </p:blipFill>
        <p:spPr>
          <a:xfrm>
            <a:off x="971640" y="4581360"/>
            <a:ext cx="1650960" cy="16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ирова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4640" cy="113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ятельность человека по созданию моде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4" descr="AG00011_"/>
          <p:cNvPicPr/>
          <p:nvPr/>
        </p:nvPicPr>
        <p:blipFill>
          <a:blip r:embed="rId1"/>
          <a:stretch/>
        </p:blipFill>
        <p:spPr>
          <a:xfrm>
            <a:off x="611280" y="3716280"/>
            <a:ext cx="1912680" cy="2160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BD00146_"/>
          <p:cNvPicPr/>
          <p:nvPr/>
        </p:nvPicPr>
        <p:blipFill>
          <a:blip r:embed="rId2"/>
          <a:stretch/>
        </p:blipFill>
        <p:spPr>
          <a:xfrm>
            <a:off x="3924360" y="3141720"/>
            <a:ext cx="1817640" cy="179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HH00669_"/>
          <p:cNvPicPr/>
          <p:nvPr/>
        </p:nvPicPr>
        <p:blipFill>
          <a:blip r:embed="rId3"/>
          <a:stretch/>
        </p:blipFill>
        <p:spPr>
          <a:xfrm>
            <a:off x="6443640" y="4149720"/>
            <a:ext cx="188136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войства моделей зависят от цели моделиров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3733920" cy="121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Натурные модел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физическое подобие объек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60640" y="2362320"/>
            <a:ext cx="37702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Информационные модели –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писание объекта в определенной форм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3789360"/>
            <a:ext cx="18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териальный объек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556000" y="42210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Явление природ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3924360" y="4437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оцесс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 flipH="1">
            <a:off x="2700360" y="3357720"/>
            <a:ext cx="2519280" cy="647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 flipH="1">
            <a:off x="3634920" y="3357720"/>
            <a:ext cx="1513080" cy="93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 flipH="1">
            <a:off x="4858920" y="3429000"/>
            <a:ext cx="289080" cy="1079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13" descr="NA01682_"/>
          <p:cNvPicPr/>
          <p:nvPr/>
        </p:nvPicPr>
        <p:blipFill>
          <a:blip r:embed="rId1"/>
          <a:stretch/>
        </p:blipFill>
        <p:spPr>
          <a:xfrm>
            <a:off x="1547640" y="4869000"/>
            <a:ext cx="1511640" cy="1265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AN00790_"/>
          <p:cNvPicPr/>
          <p:nvPr/>
        </p:nvPicPr>
        <p:blipFill>
          <a:blip r:embed="rId2"/>
          <a:stretch/>
        </p:blipFill>
        <p:spPr>
          <a:xfrm>
            <a:off x="3635280" y="4797360"/>
            <a:ext cx="1579680" cy="1646280"/>
          </a:xfrm>
          <a:prstGeom prst="rect">
            <a:avLst/>
          </a:prstGeom>
          <a:ln w="0">
            <a:noFill/>
          </a:ln>
        </p:spPr>
      </p:pic>
      <p:sp>
        <p:nvSpPr>
          <p:cNvPr id="123" name="Line 15"/>
          <p:cNvSpPr/>
          <p:nvPr/>
        </p:nvSpPr>
        <p:spPr>
          <a:xfrm>
            <a:off x="6227640" y="3860640"/>
            <a:ext cx="0" cy="2232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Line 16"/>
          <p:cNvSpPr/>
          <p:nvPr/>
        </p:nvSpPr>
        <p:spPr>
          <a:xfrm>
            <a:off x="6227640" y="407664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6804000" y="3933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ербаль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6227640" y="472428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6804000" y="458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рафическ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6227640" y="537228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6804000" y="5229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аблич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Line 22"/>
          <p:cNvSpPr/>
          <p:nvPr/>
        </p:nvSpPr>
        <p:spPr>
          <a:xfrm>
            <a:off x="6227640" y="609300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6804000" y="5805360"/>
            <a:ext cx="201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тематическ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Y=cos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24" descr="AG00174_"/>
          <p:cNvPicPr/>
          <p:nvPr/>
        </p:nvPicPr>
        <p:blipFill>
          <a:blip r:embed="rId3"/>
          <a:stretch/>
        </p:blipFill>
        <p:spPr>
          <a:xfrm>
            <a:off x="755640" y="4365720"/>
            <a:ext cx="9349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математические формулы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уравнения химических реакций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манекен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компьютерная программа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) программа телевидения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) авиамодель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ж) оглавление книги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) игрушечные часы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) эталон килограмма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) блок-схема алгоритма. (2 балл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619280" y="112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1042920" y="90792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Определите, какие из следующих моделей являются информационными: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48720" y="514080"/>
            <a:ext cx="7990200" cy="150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4920" y="2349360"/>
            <a:ext cx="504036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декорационного оформления театральной постановк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книги или журнал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лобус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еографический атлас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одель (макет) строения молекулы воды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Уравнение химической реакции, например, 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2 + 2NaOH = Na2CO3 + H2O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енеалогическое (родословное) дерево семьи Пушкиных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скелета человек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Формула определения площади квадрата со стороной h: S = h2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асписание движения поездов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Игрушечная модель паровоз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рафик зависимости высоты тела, брошенного под углом к горизонту, от времени полет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главление книг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508720" y="2361960"/>
            <a:ext cx="345600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представления (репрезентации) материальных предметов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объяснения известных фактов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построения гипотез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) получения новых знаний об исследуемых объектах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) прогнозирования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е) управления. (3 балла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539640" y="333360"/>
            <a:ext cx="83534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аны следующие модел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берите из предложенных моделей или придумайте сами примеры, когда модели объектов реальной действительности используются для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09:27:51Z</dcterms:created>
  <dc:creator>Пользователь</dc:creator>
  <dc:description/>
  <dc:language>en-US</dc:language>
  <cp:lastModifiedBy>Your User Name</cp:lastModifiedBy>
  <dcterms:modified xsi:type="dcterms:W3CDTF">2010-05-26T07:10:47Z</dcterms:modified>
  <cp:revision>4</cp:revision>
  <dc:subject/>
  <dc:title>Моделирование </dc:title>
</cp:coreProperties>
</file>